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486B-8784-47D0-A4C8-D58441D11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5D27-EB66-40F1-823D-1EE297CA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FB04-685D-486F-8C22-DAACC9259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32B6-4405-4A15-8BCB-1848FDBFA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D6CA-8068-4EFA-9201-95ED265F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EED5-2BBB-44C4-AEBA-36D3BD99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1561-2D52-4056-BC58-C04F8C10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8469-C05E-411F-87CF-5BB0B157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DB80-F81C-4C36-92A6-EF1FE8A8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9DB9-F09D-4320-AE0A-E3BE9BAA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A612-3B73-4E86-BB4D-B05B97B2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DD98-EAE9-4C63-B7D4-30CDF0BF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78EB-F121-4AE9-B2D8-CF0DE0E1B5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Matrice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Cambria"/>
              </a:rPr>
              <a:t>16A Matrix representation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A matrix is a rectangular array of numbers arranged in rows and columns. The numbers in a matrix are called the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elements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of the matrix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Capital letters are used to represent matrice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A matrix with m rows and n columns is known as a </a:t>
            </a:r>
            <a:r>
              <a:rPr b="0" i="1" lang="en-AU" sz="3200" spc="-1" strike="noStrike">
                <a:solidFill>
                  <a:srgbClr val="000000"/>
                </a:solidFill>
                <a:latin typeface="Cambria"/>
              </a:rPr>
              <a:t>m x n 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matrix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Matrix of order m x n 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Cambria"/>
              </a:rPr>
              <a:t>A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=                             is a matrix that consists of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Cambria"/>
              </a:rPr>
              <a:t>m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rows and </a:t>
            </a:r>
            <a:r>
              <a:rPr b="0" i="1" lang="en-AU" sz="3200" spc="-1" strike="noStrike">
                <a:solidFill>
                  <a:srgbClr val="000000"/>
                </a:solidFill>
                <a:latin typeface="Cambria"/>
              </a:rPr>
              <a:t>n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column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When talking about matrices or performing operations involving matrices,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always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talk about the rows before the columns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1571760" y="1500120"/>
            <a:ext cx="217152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he elements in a matrix are always referred to be the row and then the column position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           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he element in the 2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"/>
              </a:rPr>
              <a:t>nd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row and 2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"/>
              </a:rPr>
              <a:t>nd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                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column of this matrix is 2. This is represented as </a:t>
            </a:r>
            <a:r>
              <a:rPr b="0" i="1" lang="en-AU" sz="3200" spc="-1" strike="noStrike">
                <a:solidFill>
                  <a:srgbClr val="000000"/>
                </a:solidFill>
                <a:latin typeface="Cambria"/>
              </a:rPr>
              <a:t>a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mbria"/>
              </a:rPr>
              <a:t>22 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= 2 or the 2,2 element.   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1000080" y="3357720"/>
            <a:ext cx="885960" cy="10191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Definitions of row, column and square matrices are on p.805 of the textbook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56" name="Object 5"/>
          <p:cNvGraphicFramePr/>
          <p:nvPr/>
        </p:nvGraphicFramePr>
        <p:xfrm>
          <a:off x="4483080" y="2044800"/>
          <a:ext cx="127080" cy="19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3080" y="2044800"/>
                    <a:ext cx="12708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16"/>
          <p:cNvGraphicFramePr/>
          <p:nvPr/>
        </p:nvGraphicFramePr>
        <p:xfrm>
          <a:off x="4114800" y="3321000"/>
          <a:ext cx="91440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3321000"/>
                    <a:ext cx="91440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0"/>
          <p:cNvSpPr/>
          <p:nvPr/>
        </p:nvSpPr>
        <p:spPr>
          <a:xfrm>
            <a:off x="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5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ample, Ex 16A, Q.1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Using matrices to store data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Matrices are useful for storing bivariate data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here are conventions associated with storing data in matrices, e.g. In two-way frequency tables, the independent variables are in columns and the dependent variables are in rows. In simultaneous equations, the variables are in columns and the coefficients are in row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ample Ex 16A, Q. 7 and 8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You do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 16A, Q.2, 5, 6, 9, 10, 11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00:13:26Z</dcterms:created>
  <dc:creator>08843474</dc:creator>
  <dc:description/>
  <dc:language>en-US</dc:language>
  <cp:lastModifiedBy>08843474</cp:lastModifiedBy>
  <dcterms:modified xsi:type="dcterms:W3CDTF">2011-05-05T02:17:47Z</dcterms:modified>
  <cp:revision>6</cp:revision>
  <dc:subject/>
  <dc:title>Matrices</dc:title>
</cp:coreProperties>
</file>